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FB8-D254-4A16-97E6-6E4BD354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FA4C-4615-42DC-857A-0D9895D0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7333-0AFE-4107-BD44-E18C495C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3E84-B033-41AE-85C2-A3EB76B9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F31-BF26-4554-AAD3-B3DB9D90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C3F-60AF-4CF5-B361-5CC3D0A7B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0AA3-8A32-400C-90DD-12EF43E6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AE74-57B9-4114-BA7C-84B3B1A1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17B-5B27-4A90-94B2-A823EC81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098F-DF71-4403-8BDA-FE6B0424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CC12-CCE5-47C3-9025-BF258166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0732-BCC3-4F18-9849-80E40093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BB4B-0AC7-47F0-9CF6-848530CBE5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2960" y="838080"/>
            <a:ext cx="7316640" cy="4756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648320" y="1143000"/>
            <a:ext cx="1295280" cy="4495680"/>
          </a:xfrm>
          <a:prstGeom prst="ellipse">
            <a:avLst/>
          </a:prstGeom>
          <a:solidFill>
            <a:srgbClr val="ffff00">
              <a:alpha val="71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62920" y="1219320"/>
            <a:ext cx="1218960" cy="25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81480" y="914040"/>
            <a:ext cx="0" cy="48006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29440" y="45720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is the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09680" y="914400"/>
            <a:ext cx="281952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4495680"/>
            <a:ext cx="5029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46320" y="4191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4191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286000"/>
            <a:ext cx="32763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3040" y="236232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here is the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2819520"/>
            <a:ext cx="182880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45120" y="1219320"/>
            <a:ext cx="2793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ally, most of the numbers are in this area, and are not evenly distributed throughout the r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Standard Deviatio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is a number that measures how far away each number in a set of data is from their mea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ndard Devi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rge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t means the numbers are spread out from their mean.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tandard Devi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mall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t means the numbers are close to their me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99800" y="4686480"/>
            <a:ext cx="16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all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68120" y="1333440"/>
            <a:ext cx="157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rg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8954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are the scores on the math quiz for Team 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038480" y="838080"/>
          <a:ext cx="947880" cy="5222880"/>
        </p:xfrm>
        <a:graphic>
          <a:graphicData uri="http://schemas.openxmlformats.org/drawingml/2006/table">
            <a:tbl>
              <a:tblPr/>
              <a:tblGrid>
                <a:gridCol w="94788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5105520" y="838080"/>
            <a:ext cx="990360" cy="5181840"/>
          </a:xfrm>
          <a:custGeom>
            <a:avLst/>
            <a:gdLst>
              <a:gd name="textAreaLeft" fmla="*/ 0 w 990360"/>
              <a:gd name="textAreaRight" fmla="*/ 357480 w 990360"/>
              <a:gd name="textAreaTop" fmla="*/ 135000 h 5181840"/>
              <a:gd name="textAreaBottom" fmla="*/ 5046840 h 518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372720" y="2827440"/>
            <a:ext cx="241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erag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1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ndard Deviation measures how far away each number in a set of data is from their me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0" t="0" r="0" b="50012"/>
          <a:stretch/>
        </p:blipFill>
        <p:spPr>
          <a:xfrm>
            <a:off x="609480" y="2438280"/>
            <a:ext cx="7926480" cy="4170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V="1">
            <a:off x="5168880" y="3657240"/>
            <a:ext cx="0" cy="25146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start with the lowest score, 72.  How far away is 72 from the mean of 81.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645000" y="4267080"/>
            <a:ext cx="1536480" cy="1296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4089240"/>
            <a:ext cx="0" cy="121932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95520" y="2006640"/>
            <a:ext cx="23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 - 81.5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382284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0" t="0" r="0" b="50012"/>
          <a:stretch/>
        </p:blipFill>
        <p:spPr>
          <a:xfrm>
            <a:off x="609480" y="2438280"/>
            <a:ext cx="7926480" cy="417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V="1">
            <a:off x="5168880" y="3657240"/>
            <a:ext cx="0" cy="251460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645000" y="4267080"/>
            <a:ext cx="1536480" cy="1296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089240"/>
            <a:ext cx="0" cy="121932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382284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9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9907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, start with the lowest score, 89.  How far away is 89 from the mean of 81.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94440" y="4257720"/>
            <a:ext cx="1206360" cy="936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4064040"/>
            <a:ext cx="0" cy="1219320"/>
          </a:xfrm>
          <a:prstGeom prst="line">
            <a:avLst/>
          </a:prstGeom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96240" y="200664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9 - 81.5 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8228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438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, the first step to finding the Standard Deviation is to find all the distances from the mea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8120" y="1177920"/>
          <a:ext cx="914400" cy="5222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962520" y="117792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3946680" y="13644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438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, the first step to finding the Standard Deviation is to find all the distances from the mea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048120" y="1177920"/>
          <a:ext cx="914400" cy="5222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962520" y="117792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946680" y="13644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438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, you need to square each of the distances to turn them all into positive numb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048120" y="1177920"/>
          <a:ext cx="914400" cy="5222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962520" y="117792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946680" y="13644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410080" y="118116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5410080" y="36504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s Squ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438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, you need to square each of the distances to turn them all into positive numb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8120" y="1177920"/>
          <a:ext cx="914400" cy="5222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962520" y="117792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946680" y="13644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410080" y="118116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5410080" y="36504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s Squ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wo classes took a recent quiz.  There were 10 students in each class, and each class had an average score of 81.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438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 up all of the distan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8120" y="1177920"/>
          <a:ext cx="914400" cy="5222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962520" y="117792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946680" y="13644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410080" y="118116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5410080" y="36504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s Squ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1219320"/>
            <a:ext cx="685800" cy="5181480"/>
          </a:xfrm>
          <a:custGeom>
            <a:avLst/>
            <a:gdLst>
              <a:gd name="textAreaLeft" fmla="*/ 0 w 685800"/>
              <a:gd name="textAreaRight" fmla="*/ 247680 w 6858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73840" y="1905120"/>
            <a:ext cx="9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438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by (n - 1) w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presents the amount of numbers you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8120" y="1177920"/>
          <a:ext cx="914400" cy="5222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962520" y="117792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3946680" y="13644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410080" y="118116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5410080" y="36504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s Squ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1219320"/>
            <a:ext cx="685800" cy="5181480"/>
          </a:xfrm>
          <a:custGeom>
            <a:avLst/>
            <a:gdLst>
              <a:gd name="textAreaLeft" fmla="*/ 0 w 685800"/>
              <a:gd name="textAreaRight" fmla="*/ 247680 w 6858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3840" y="1905120"/>
            <a:ext cx="9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96080" y="27432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20840" y="27813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 -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48200" y="35053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3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438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ly, take the Square Root of the average dist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048120" y="1177920"/>
          <a:ext cx="914400" cy="5222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962520" y="117792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3946680" y="13644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410080" y="118116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5410080" y="36504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s Squ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10280" y="1219320"/>
            <a:ext cx="685800" cy="5181480"/>
          </a:xfrm>
          <a:custGeom>
            <a:avLst/>
            <a:gdLst>
              <a:gd name="textAreaLeft" fmla="*/ 0 w 685800"/>
              <a:gd name="textAreaRight" fmla="*/ 247680 w 6858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73840" y="1905120"/>
            <a:ext cx="9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27432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0840" y="27813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 -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48200" y="35053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3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48200" y="41148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.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543800" y="4038480"/>
            <a:ext cx="129528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438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andard Devi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048120" y="1177920"/>
          <a:ext cx="914400" cy="5222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3962520" y="117792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3946680" y="13644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410080" y="118116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5410080" y="36504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s Squ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1219320"/>
            <a:ext cx="685800" cy="5181480"/>
          </a:xfrm>
          <a:custGeom>
            <a:avLst/>
            <a:gdLst>
              <a:gd name="textAreaLeft" fmla="*/ 0 w 685800"/>
              <a:gd name="textAreaRight" fmla="*/ 247680 w 6858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73840" y="1905120"/>
            <a:ext cx="94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96080" y="274320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0840" y="27813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 -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48200" y="35053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3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48200" y="41148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.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543800" y="4038480"/>
            <a:ext cx="1371600" cy="609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24386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w find th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andard Deviatio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the other class grad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048120" y="1177920"/>
          <a:ext cx="914400" cy="5222880"/>
        </p:xfrm>
        <a:graphic>
          <a:graphicData uri="http://schemas.openxmlformats.org/drawingml/2006/table">
            <a:tbl>
              <a:tblPr/>
              <a:tblGrid>
                <a:gridCol w="91440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962520" y="117792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18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3946680" y="13644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from M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410080" y="1181160"/>
          <a:ext cx="1447560" cy="5222520"/>
        </p:xfrm>
        <a:graphic>
          <a:graphicData uri="http://schemas.openxmlformats.org/drawingml/2006/table">
            <a:tbl>
              <a:tblPr/>
              <a:tblGrid>
                <a:gridCol w="144756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.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410080" y="365040"/>
            <a:ext cx="13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s Squ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10280" y="1219320"/>
            <a:ext cx="685800" cy="5181480"/>
          </a:xfrm>
          <a:custGeom>
            <a:avLst/>
            <a:gdLst>
              <a:gd name="textAreaLeft" fmla="*/ 0 w 685800"/>
              <a:gd name="textAreaRight" fmla="*/ 247680 w 6858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800"/>
                </a:lnTo>
                <a:cubicBezTo>
                  <a:pt x="10800" y="2700"/>
                  <a:pt x="16200" y="3600"/>
                  <a:pt x="21600" y="3600"/>
                </a:cubicBezTo>
                <a:cubicBezTo>
                  <a:pt x="16200" y="3600"/>
                  <a:pt x="10800" y="4500"/>
                  <a:pt x="10800" y="54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74200" y="1905120"/>
            <a:ext cx="11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28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274320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49360" y="27813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 -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48560" y="35053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53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48560" y="41148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5.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, lets compare the two classes a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47640" y="2209680"/>
          <a:ext cx="7848720" cy="4038840"/>
        </p:xfrm>
        <a:graphic>
          <a:graphicData uri="http://schemas.openxmlformats.org/drawingml/2006/table">
            <a:tbl>
              <a:tblPr/>
              <a:tblGrid>
                <a:gridCol w="2616120"/>
                <a:gridCol w="2616480"/>
                <a:gridCol w="2616120"/>
              </a:tblGrid>
              <a:tr h="134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m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on the Qui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Devi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685800" y="3733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1.5          81.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5029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88          15.9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ince the averages are the same, can we assume that the students in both classes all did pretty much the same on the exa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answer is… No.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average (mean) does not tell us anything about the distribution or variation in the grad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are Dot-Plots of the grades in each clas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0" b="50012"/>
          <a:stretch/>
        </p:blipFill>
        <p:spPr>
          <a:xfrm>
            <a:off x="1447920" y="152280"/>
            <a:ext cx="6249960" cy="3287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49993" r="0" b="0"/>
          <a:stretch/>
        </p:blipFill>
        <p:spPr>
          <a:xfrm>
            <a:off x="1447920" y="3517920"/>
            <a:ext cx="6248160" cy="3289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029200" y="5105520"/>
            <a:ext cx="0" cy="16002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1676520"/>
            <a:ext cx="0" cy="16002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73840" y="32004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181120" y="3657600"/>
            <a:ext cx="304812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105520" y="2209680"/>
            <a:ext cx="320040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, we need to come up with some way of measuring not just the average, but also the spread of the distribution of our dat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hy not just give an average and the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rang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of data (the highest and lowest values) to describe the distribution  of the dat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6960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, for example, lets say from a set of data, the average is 17.95 and the range is 2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3960" y="4191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t what if the data looked like thi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01:51:50Z</dcterms:created>
  <dc:creator>Jonathan Osler</dc:creator>
  <dc:description/>
  <dc:language>en-US</dc:language>
  <cp:lastModifiedBy>soe Goodman</cp:lastModifiedBy>
  <dcterms:modified xsi:type="dcterms:W3CDTF">2013-05-15T01:13:34Z</dcterms:modified>
  <cp:revision>46</cp:revision>
  <dc:subject/>
  <dc:title>Standard Deviation</dc:title>
</cp:coreProperties>
</file>